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10.jpeg" ContentType="image/jpeg"/>
  <Override PartName="/ppt/media/image8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4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0B63-4888-4CCF-A426-2B69ACE1B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54E0-2076-4701-B80A-E76E7AF60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747D-BC6E-44F7-9DDE-4C30E152E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A2B7-B476-4013-817E-858417D9E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D040C-8E4F-440D-ADF8-2C1E0ECEA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1FA65-98BD-42F1-AAF2-1FF2EDE8B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C1CCF-A449-41EA-8F47-ED79690FC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32BC7-F1BA-44E9-B048-FD3D3CCC3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C7A48-B875-433E-BE08-5F5703233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8E4D6-04F9-4986-9122-9D421A6DF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2DAC6-B197-45D5-9C43-FF1545476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82F1-59D7-44C3-B085-0DB745EB0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5ABCC-5459-4050-B493-6C259854C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4E6A7-F85C-4035-84AF-9A3143C0D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5A70F-6543-4F83-89A0-B905A893B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8F1E4-41B9-4848-B7A1-131772B58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1FD56-45A0-433F-A165-48C39ED0F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02C2-D2BF-44BD-8974-3A0E8F70F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6133-7BC2-4966-99C0-EFC060040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E282-A93D-4E29-AFBB-756DC12FB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C727-1BC8-4EEF-9F88-3AF85B75F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7949-28C1-4677-94C3-BA83A6087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59A6-AA75-456C-84AB-752C623E3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5840-909A-4955-B995-F80972A56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5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26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27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28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Picture 33" descr="anabnr2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34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A1081-1A51-4243-B52D-A986EDF2FFA9}" type="slidenum">
              <a:rPr b="0" lang="ru-RU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3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Picture 7" descr="ANABNR2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9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39BD2-00D6-4BDF-B571-A85478C479EF}" type="slidenum">
              <a:rPr b="0" lang="ru-RU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oopt.info/south.html" TargetMode="External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oopt.info/astr/bigmap.html" TargetMode="External"/><Relationship Id="rId2" Type="http://schemas.openxmlformats.org/officeDocument/2006/relationships/hyperlink" Target="http://www.oopt.info/astr/bigmap.html" TargetMode="Externa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2a3d7a"/>
                </a:solidFill>
                <a:latin typeface="Times New Roman"/>
              </a:rPr>
              <a:t>Заповедники</a:t>
            </a:r>
            <a:r>
              <a:rPr b="1" lang="ru-RU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ru-RU" sz="5400" spc="-1" strike="noStrike">
                <a:solidFill>
                  <a:srgbClr val="2a3d7a"/>
                </a:solidFill>
                <a:latin typeface="Times New Roman"/>
              </a:rPr>
              <a:t>России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680" y="1905120"/>
            <a:ext cx="739152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5b5249"/>
                </a:solidFill>
                <a:latin typeface="Times New Roman"/>
              </a:rPr>
              <a:t>Астраханский заповедник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93" name="Picture 5" descr="перейти на карту ООПТ округа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29200" y="4572000"/>
            <a:ext cx="2895480" cy="167796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6"/>
          <p:cNvSpPr/>
          <p:nvPr/>
        </p:nvSpPr>
        <p:spPr>
          <a:xfrm>
            <a:off x="2989440" y="2235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95" name="Picture 8" descr="Эмблема Астраханского заповедника"/>
          <p:cNvPicPr/>
          <p:nvPr/>
        </p:nvPicPr>
        <p:blipFill>
          <a:blip r:embed="rId3"/>
          <a:stretch/>
        </p:blipFill>
        <p:spPr>
          <a:xfrm>
            <a:off x="1447920" y="4114800"/>
            <a:ext cx="2286000" cy="2297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066680" y="21016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4" name="Rectangle 31"/>
          <p:cNvSpPr/>
          <p:nvPr/>
        </p:nvSpPr>
        <p:spPr>
          <a:xfrm>
            <a:off x="533520" y="685800"/>
            <a:ext cx="8229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Arial Black"/>
              </a:rPr>
              <a:t>     </a:t>
            </a:r>
            <a:r>
              <a:rPr b="1" lang="ru-RU" sz="2000" spc="-1" strike="noStrike">
                <a:solidFill>
                  <a:srgbClr val="5b5249"/>
                </a:solidFill>
                <a:latin typeface="Arial Black"/>
                <a:ea typeface="Arial"/>
              </a:rPr>
              <a:t>В Астраханском заповеднике зарегистрировано 256 видов птиц, из них 97</a:t>
            </a:r>
            <a:r>
              <a:rPr b="1" lang="ru-RU" sz="2000" spc="-1" strike="noStrike">
                <a:solidFill>
                  <a:srgbClr val="5b5249"/>
                </a:solidFill>
                <a:latin typeface="Arial Black"/>
              </a:rPr>
              <a:t>видов</a:t>
            </a:r>
            <a:r>
              <a:rPr b="1" lang="ru-RU" sz="2000" spc="-1" strike="noStrike">
                <a:solidFill>
                  <a:srgbClr val="5b5249"/>
                </a:solidFill>
                <a:latin typeface="Arial Black"/>
                <a:ea typeface="Arial"/>
              </a:rPr>
              <a:t> на гнездовье, 134</a:t>
            </a:r>
            <a:r>
              <a:rPr b="1" lang="ru-RU" sz="2000" spc="-1" strike="noStrike">
                <a:solidFill>
                  <a:srgbClr val="5b5249"/>
                </a:solidFill>
                <a:latin typeface="Arial Black"/>
              </a:rPr>
              <a:t>  вида  </a:t>
            </a:r>
            <a:r>
              <a:rPr b="1" lang="ru-RU" sz="2000" spc="-1" strike="noStrike">
                <a:solidFill>
                  <a:srgbClr val="5b5249"/>
                </a:solidFill>
                <a:latin typeface="Arial Black"/>
                <a:ea typeface="Arial"/>
              </a:rPr>
              <a:t> - в период миграции и зимовки и 25</a:t>
            </a:r>
            <a:r>
              <a:rPr b="1" lang="ru-RU" sz="2000" spc="-1" strike="noStrike">
                <a:solidFill>
                  <a:srgbClr val="5b5249"/>
                </a:solidFill>
                <a:latin typeface="Arial Black"/>
              </a:rPr>
              <a:t>  видов </a:t>
            </a:r>
            <a:r>
              <a:rPr b="1" lang="ru-RU" sz="2000" spc="-1" strike="noStrike">
                <a:solidFill>
                  <a:srgbClr val="5b5249"/>
                </a:solidFill>
                <a:latin typeface="Arial Black"/>
                <a:ea typeface="Arial"/>
              </a:rPr>
              <a:t> - при залетах. </a:t>
            </a:r>
            <a:r>
              <a:rPr b="1" lang="ru-RU" sz="2000" spc="-1" strike="noStrike">
                <a:solidFill>
                  <a:srgbClr val="5b5249"/>
                </a:solidFill>
                <a:latin typeface="Arial Black"/>
              </a:rPr>
              <a:t> 27 видов занесены в Красную книгу России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5" name="Picture 34" descr="x1"/>
          <p:cNvPicPr/>
          <p:nvPr/>
        </p:nvPicPr>
        <p:blipFill>
          <a:blip r:embed="rId1"/>
          <a:stretch/>
        </p:blipFill>
        <p:spPr>
          <a:xfrm>
            <a:off x="533520" y="2057400"/>
            <a:ext cx="4068720" cy="43434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6" descr="x7"/>
          <p:cNvPicPr/>
          <p:nvPr/>
        </p:nvPicPr>
        <p:blipFill>
          <a:blip r:embed="rId2"/>
          <a:stretch/>
        </p:blipFill>
        <p:spPr>
          <a:xfrm>
            <a:off x="5105520" y="2057400"/>
            <a:ext cx="3809880" cy="21337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7" descr="Посмотреть"/>
          <p:cNvPicPr/>
          <p:nvPr/>
        </p:nvPicPr>
        <p:blipFill>
          <a:blip r:embed="rId3"/>
          <a:stretch/>
        </p:blipFill>
        <p:spPr>
          <a:xfrm>
            <a:off x="5715000" y="4267080"/>
            <a:ext cx="2590920" cy="2270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680" y="1371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0" lang="ru-RU" sz="2000" spc="-1" strike="noStrike">
                <a:solidFill>
                  <a:srgbClr val="5b5249"/>
                </a:solidFill>
                <a:latin typeface="Arial Black"/>
              </a:rPr>
              <a:t>5    видов    рептилий,   в том числе </a:t>
            </a:r>
            <a:r>
              <a:rPr b="1" lang="ru-RU" sz="2000" spc="-1" strike="noStrike">
                <a:solidFill>
                  <a:srgbClr val="5b5249"/>
                </a:solidFill>
                <a:latin typeface="Arial Black"/>
                <a:ea typeface="Arial"/>
              </a:rPr>
              <a:t>обитает редкая болотная черепаха.</a:t>
            </a:r>
            <a:br>
              <a:rPr sz="2000"/>
            </a:br>
            <a:endParaRPr b="0" lang="en-US" sz="20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39" name="Picture 11" descr="Посмотреть"/>
          <p:cNvPicPr/>
          <p:nvPr/>
        </p:nvPicPr>
        <p:blipFill>
          <a:blip r:embed="rId1"/>
          <a:stretch/>
        </p:blipFill>
        <p:spPr>
          <a:xfrm>
            <a:off x="1295280" y="1905120"/>
            <a:ext cx="7239240" cy="4505040"/>
          </a:xfrm>
          <a:prstGeom prst="rect">
            <a:avLst/>
          </a:prstGeom>
          <a:ln w="0">
            <a:noFill/>
          </a:ln>
        </p:spPr>
      </p:pic>
    </p:spTree>
  </p:cSld>
  <p:transition advTm="7000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0" y="990720"/>
            <a:ext cx="4191120" cy="522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5b5249"/>
                </a:solidFill>
                <a:latin typeface="Times New Roman"/>
              </a:rPr>
              <a:t>Волго-Каспий - это уникальный рыбохозяйственный бассейн, в котором водятся все представители осетровых, являющихся нашим национальным богатством.</a:t>
            </a: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5b5249"/>
                </a:solidFill>
                <a:latin typeface="Times New Roman"/>
              </a:rPr>
              <a:t>Богат этот край и другими ценными породам рыбы. Всего насчитывается  </a:t>
            </a:r>
            <a:r>
              <a:rPr b="1" lang="ru-RU" sz="2400" spc="-1" strike="noStrike">
                <a:solidFill>
                  <a:srgbClr val="5b5249"/>
                </a:solidFill>
                <a:latin typeface="Arial Black"/>
              </a:rPr>
              <a:t>61  вид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41" name="Picture 21" descr="x22"/>
          <p:cNvPicPr/>
          <p:nvPr/>
        </p:nvPicPr>
        <p:blipFill>
          <a:blip r:embed="rId1"/>
          <a:stretch/>
        </p:blipFill>
        <p:spPr>
          <a:xfrm>
            <a:off x="4191120" y="914400"/>
            <a:ext cx="4724280" cy="5562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10666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Географическое положение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800600" y="2057400"/>
            <a:ext cx="41911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оведник расположен  в низовьях дельты Волги, на территории Камызякского и Володарского районов Астраханской области.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лощадь заповедника составляет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67 917 га, в том числе 11 298 га - морская акватория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98" name="Group 8"/>
          <p:cNvGrpSpPr/>
          <p:nvPr/>
        </p:nvGrpSpPr>
        <p:grpSpPr>
          <a:xfrm>
            <a:off x="3108240" y="2073240"/>
            <a:ext cx="2927520" cy="2836800"/>
            <a:chOff x="3108240" y="2073240"/>
            <a:chExt cx="2927520" cy="2836800"/>
          </a:xfrm>
        </p:grpSpPr>
        <p:sp>
          <p:nvSpPr>
            <p:cNvPr id="99" name="Rectangle 5"/>
            <p:cNvSpPr/>
            <p:nvPr/>
          </p:nvSpPr>
          <p:spPr>
            <a:xfrm>
              <a:off x="3108240" y="2073240"/>
              <a:ext cx="2108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00" name="Rectangle 6"/>
            <p:cNvSpPr/>
            <p:nvPr/>
          </p:nvSpPr>
          <p:spPr>
            <a:xfrm>
              <a:off x="3108240" y="2073240"/>
              <a:ext cx="2927520" cy="283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 u="sng">
                  <a:solidFill>
                    <a:srgbClr val="b0ae6a"/>
                  </a:solidFill>
                  <a:uFillTx/>
                  <a:latin typeface="Arial"/>
                  <a:hlinkClick r:id="rId1"/>
                </a:rPr>
                <a:t>  </a:t>
              </a:r>
              <a:r>
                <a:rPr b="0" lang="en-US" sz="164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                                                                                             </a:t>
              </a:r>
              <a:endParaRPr b="0" lang="en-US" sz="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pic>
        <p:nvPicPr>
          <p:cNvPr id="101" name="Picture 9" descr="увеличить карту ООПТ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62120" y="2057400"/>
            <a:ext cx="4190760" cy="4049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История создания заповедника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343040" y="1752120"/>
            <a:ext cx="4800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Первый советский заповедник — Астраханский — был учрежден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11 апреля 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1919 г.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решением общественной Ученой Комиссии при Астраханском университете 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при личном участии Владимира Ильича Ленина.</a:t>
            </a:r>
            <a:endParaRPr b="0" lang="en-US" sz="15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За большую научную и природоохранительную работу в марте 1969 г. Астраханскому заповеднику присвоено имя В.И. Ленина. </a:t>
            </a:r>
            <a:endParaRPr b="0" lang="en-US" sz="15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В январе 1971 г. за успехи, достигнутые в работе по изучению и сохранению природного комплекса дельты Волги, заповедник награжден орденом Трудового Красного Знамени.</a:t>
            </a:r>
            <a:endParaRPr b="0" lang="en-US" sz="15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374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5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4" name="Picture 7" descr="240x161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Цель создания заповедника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00360" y="1268280"/>
            <a:ext cx="426708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Природа дельты Волги была глубоко нарушена в результате роста населения, освоения новых земель и безудержной хищнической эксплуатации многих природных богатств. Увеличение числа хуторов и выпас скота в местах их расположения привели к резкой деградации растительного покрова. Местами даже появились голые пески. Но особенно пострадали животные.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хранение и накопление природных ресурсов и генетических фондов устья Волги и побережья Каспия, а также исследование динамики дельтообразования и жизни ее ценозов в целях освоения природных производительных сил дельты и охраны мест гнездования и перелета водоплавающей птицы, рыбных перестилищ, рыбных ям, а также редких растений - лотоса, чилима и други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7" name="Picture 7" descr="150x163"/>
          <p:cNvPicPr/>
          <p:nvPr/>
        </p:nvPicPr>
        <p:blipFill>
          <a:blip r:embed="rId1"/>
          <a:stretch/>
        </p:blipFill>
        <p:spPr>
          <a:xfrm>
            <a:off x="685800" y="1447920"/>
            <a:ext cx="2101680" cy="2286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9" descr="Посмотреть"/>
          <p:cNvPicPr/>
          <p:nvPr/>
        </p:nvPicPr>
        <p:blipFill>
          <a:blip r:embed="rId2"/>
          <a:stretch/>
        </p:blipFill>
        <p:spPr>
          <a:xfrm>
            <a:off x="1371600" y="4038480"/>
            <a:ext cx="3124080" cy="2176560"/>
          </a:xfrm>
          <a:prstGeom prst="rect">
            <a:avLst/>
          </a:prstGeom>
          <a:ln w="0">
            <a:noFill/>
          </a:ln>
        </p:spPr>
      </p:pic>
      <p:sp>
        <p:nvSpPr>
          <p:cNvPr id="109" name="WordArt 10"/>
          <p:cNvSpPr txBox="1"/>
          <p:nvPr/>
        </p:nvSpPr>
        <p:spPr>
          <a:xfrm>
            <a:off x="1979640" y="6308640"/>
            <a:ext cx="1219320" cy="1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лотос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10" name="WordArt 11"/>
          <p:cNvSpPr txBox="1"/>
          <p:nvPr/>
        </p:nvSpPr>
        <p:spPr>
          <a:xfrm>
            <a:off x="826920" y="1557360"/>
            <a:ext cx="102888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рел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Растительный</a:t>
            </a: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	</a:t>
            </a: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 мир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28840" y="2101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Arial"/>
              </a:rPr>
              <a:t>Сотни рукавов великой русской реки Волги несут свои воды в Каспийское море. С высоты птичьего полета волжская дельта выглядит как царство островов, больших и малых, покрытых зеленью трав и кустарников.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   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3" name="Picture 12" descr="x11"/>
          <p:cNvPicPr/>
          <p:nvPr/>
        </p:nvPicPr>
        <p:blipFill>
          <a:blip r:embed="rId1"/>
          <a:stretch/>
        </p:blipFill>
        <p:spPr>
          <a:xfrm>
            <a:off x="762120" y="1600200"/>
            <a:ext cx="3962160" cy="4800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5028840" y="1523520"/>
            <a:ext cx="3809880" cy="46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  <a:ea typeface="Arial"/>
              </a:rPr>
              <a:t>Растительность островов своеобразна: галерейные леса из белой ивы над бесчисленными протоками, сплошные заросли тростника высотой до 6 м создают непроходимую стену, скрывающую от любопытных глаз своих обитателей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5" name="Picture 5" descr="x12"/>
          <p:cNvPicPr/>
          <p:nvPr/>
        </p:nvPicPr>
        <p:blipFill>
          <a:blip r:embed="rId1"/>
          <a:stretch/>
        </p:blipFill>
        <p:spPr>
          <a:xfrm>
            <a:off x="838080" y="1447920"/>
            <a:ext cx="4191120" cy="4190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a3d7a"/>
                </a:solidFill>
                <a:latin typeface="Arial Black"/>
              </a:rPr>
              <a:t>В составе флоры 293 вида растений</a:t>
            </a:r>
            <a:endParaRPr b="0" lang="en-US" sz="2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1"/>
          <a:stretch/>
        </p:blipFill>
        <p:spPr>
          <a:xfrm>
            <a:off x="762120" y="2362320"/>
            <a:ext cx="4190760" cy="301788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28840" y="2101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9" name="Picture 8" descr="x15"/>
          <p:cNvPicPr/>
          <p:nvPr/>
        </p:nvPicPr>
        <p:blipFill>
          <a:blip r:embed="rId2"/>
          <a:stretch/>
        </p:blipFill>
        <p:spPr>
          <a:xfrm>
            <a:off x="5181480" y="2438280"/>
            <a:ext cx="3581640" cy="2971800"/>
          </a:xfrm>
          <a:prstGeom prst="rect">
            <a:avLst/>
          </a:prstGeom>
          <a:ln w="0">
            <a:noFill/>
          </a:ln>
        </p:spPr>
      </p:pic>
      <p:sp>
        <p:nvSpPr>
          <p:cNvPr id="120" name="WordArt 13"/>
          <p:cNvSpPr txBox="1"/>
          <p:nvPr/>
        </p:nvSpPr>
        <p:spPr>
          <a:xfrm>
            <a:off x="3124080" y="5715000"/>
            <a:ext cx="3353040" cy="47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569de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лотос розовый</a:t>
            </a:r>
            <a:endParaRPr b="0" i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569de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a3d7a"/>
                </a:solidFill>
                <a:latin typeface="Times New Roman"/>
              </a:rPr>
              <a:t>астраханские тюльпаны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028840" y="2101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3" name="Picture 13" descr="Посмотреть"/>
          <p:cNvPicPr/>
          <p:nvPr/>
        </p:nvPicPr>
        <p:blipFill>
          <a:blip r:embed="rId1"/>
          <a:stretch/>
        </p:blipFill>
        <p:spPr>
          <a:xfrm>
            <a:off x="1523880" y="1447920"/>
            <a:ext cx="5562720" cy="4929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514600" y="761760"/>
            <a:ext cx="541008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Животный мир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20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marL="420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5b5249"/>
                </a:solidFill>
                <a:latin typeface="Arial Black"/>
              </a:rPr>
              <a:t>           </a:t>
            </a:r>
            <a:r>
              <a:rPr b="1" lang="ru-RU" sz="2000" spc="-1" strike="noStrike">
                <a:solidFill>
                  <a:srgbClr val="5b5249"/>
                </a:solidFill>
                <a:latin typeface="Arial Black"/>
              </a:rPr>
              <a:t>В заповеднике обитают обитают 27 видов млекопитающих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Rectangle 6"/>
          <p:cNvSpPr/>
          <p:nvPr/>
        </p:nvSpPr>
        <p:spPr>
          <a:xfrm>
            <a:off x="-1447920" y="5105520"/>
            <a:ext cx="803520" cy="268200"/>
          </a:xfrm>
          <a:prstGeom prst="rect">
            <a:avLst/>
          </a:prstGeom>
          <a:solidFill>
            <a:srgbClr val="8888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8760" rIns="2239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Rectangle 9"/>
          <p:cNvSpPr/>
          <p:nvPr/>
        </p:nvSpPr>
        <p:spPr>
          <a:xfrm>
            <a:off x="-1440" y="3346560"/>
            <a:ext cx="803160" cy="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8760" rIns="22392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endParaRPr b="0" lang="en-US" sz="1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28" name="Group 11"/>
          <p:cNvGrpSpPr/>
          <p:nvPr/>
        </p:nvGrpSpPr>
        <p:grpSpPr>
          <a:xfrm>
            <a:off x="-3240" y="609480"/>
            <a:ext cx="9147240" cy="206280"/>
            <a:chOff x="-3240" y="609480"/>
            <a:chExt cx="9147240" cy="206280"/>
          </a:xfrm>
        </p:grpSpPr>
        <p:sp>
          <p:nvSpPr>
            <p:cNvPr id="129" name="Rectangle 5"/>
            <p:cNvSpPr/>
            <p:nvPr/>
          </p:nvSpPr>
          <p:spPr>
            <a:xfrm>
              <a:off x="58680" y="653760"/>
              <a:ext cx="9023400" cy="125280"/>
            </a:xfrm>
            <a:prstGeom prst="rect">
              <a:avLst/>
            </a:prstGeom>
            <a:solidFill>
              <a:srgbClr val="e8e9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0" name="Rectangle 10"/>
            <p:cNvSpPr/>
            <p:nvPr/>
          </p:nvSpPr>
          <p:spPr>
            <a:xfrm>
              <a:off x="-3240" y="609480"/>
              <a:ext cx="9147240" cy="20628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pic>
        <p:nvPicPr>
          <p:cNvPr id="131" name="Picture 21" descr="Посмотреть"/>
          <p:cNvPicPr/>
          <p:nvPr/>
        </p:nvPicPr>
        <p:blipFill>
          <a:blip r:embed="rId1"/>
          <a:stretch/>
        </p:blipFill>
        <p:spPr>
          <a:xfrm>
            <a:off x="685800" y="2590920"/>
            <a:ext cx="4267080" cy="37335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3" descr="x9"/>
          <p:cNvPicPr/>
          <p:nvPr/>
        </p:nvPicPr>
        <p:blipFill>
          <a:blip r:embed="rId2"/>
          <a:stretch/>
        </p:blipFill>
        <p:spPr>
          <a:xfrm>
            <a:off x="5257800" y="2666880"/>
            <a:ext cx="3476520" cy="3657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9T10:33:51Z</dcterms:created>
  <dc:creator>XXX</dc:creator>
  <dc:description/>
  <dc:language>en-US</dc:language>
  <cp:lastModifiedBy>Учитель</cp:lastModifiedBy>
  <dcterms:modified xsi:type="dcterms:W3CDTF">2013-05-06T16:59:13Z</dcterms:modified>
  <cp:revision>20</cp:revision>
  <dc:subject/>
  <dc:title>Презентация PowerPoint</dc:title>
</cp:coreProperties>
</file>